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201836-F23C-411D-ADDB-CF2149FF321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7CA9EC-C8A9-49FA-995D-390E99884B4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51CA4C-C939-4832-9287-68796C9B65D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4860-29C8-49AA-803C-70FE347B756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C0055A-E997-4B6D-AE00-A5AD551B624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9524-FC19-4067-B5CC-E95A862E4261}"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CB72-61E0-4225-9331-88F573AB68B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A66B-9E69-477D-BC04-48AA507C1E2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71A2-D2A7-48F1-9A24-0B9EB45C491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460E-57C9-44AD-87EE-47E9643DE86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508E-04EB-4EFF-9614-01E37AE081B6}"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2DF8908-A220-4155-9447-73CD710993A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D3EB-1984-4BEA-A097-854D6F3D2F76}"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16C30AF-4F54-4B94-94C3-48DDE79C4D6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6429C-7E54-4ED2-AA7F-D4AB01125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33C92-EB67-439F-85BC-3AF346CB7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409AF-4CFF-460B-A914-97BC15F59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72C0D-F854-4ED7-8D64-62825CAEB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096A9-E2AC-488D-A172-6AE81EBAB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CAE4F-8814-4419-9ACD-E9E20862A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F23F4-A905-42F4-A05E-02A7711D9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9CEB9-EC2E-4022-B0C3-3D29A415F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F63F1-5D28-4686-A735-13F86BC48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6C2A9-3754-4E05-B404-842DD7BEF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34B22-CCC0-4712-8C03-9A7AD9D28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45924-0580-4668-B09D-78324CE29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28BE-EE8B-43EC-A454-33448CEEC327}" type="datetime">
              <a:rPr b="0" lang="en-US" sz="1200" spc="-1" strike="noStrike">
                <a:solidFill>
                  <a:srgbClr val="898989"/>
                </a:solidFill>
                <a:latin typeface="Calibri"/>
              </a:rPr>
              <a:t>07/31/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5139-60DF-4D24-8DD1-B3A653F0965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B298-2418-46B5-970A-3E84989A7F4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DF27-030B-4F7E-944A-6466B0A1C88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0AC7-57B2-41F7-B237-6752E2FC751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9EE1-6593-4D7D-948C-54F1477451B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5951-3D76-4771-A1C4-CA87C98F0F4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5F72-0295-4EE5-8A5C-F0578640325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2384-797E-4800-9ACD-C7DEBED7902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6571-1280-45B8-AC60-6C88AF7E2BB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3C2C-4EAA-44D8-9D6D-01F160FF67D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A11C-D688-45AC-A034-0B7BB6003F3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84F5-A42F-4CD2-BD76-90F18DE78A6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56D9-722D-4E52-8BA6-86879482B99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652DE-AC08-4E82-BF17-D754E594E42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6DAA-7439-4163-9DB4-D6FE66792A4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2DE1-38FC-459B-B49B-D1B85EDEA21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6078-F8EA-413D-B731-3F04E0256C6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E8D9-FEB3-4BEA-919A-95C6FF78537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6D4F-E5C9-4CC0-8725-E2F22EED96B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7201C-D008-47A4-A228-E2ABD47FAF3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DEAE-7EAE-44DF-9606-9F9EB230D3C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833A-9C98-439E-98F5-DF3577412BC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